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25.jpeg" ContentType="image/jpeg"/>
  <Override PartName="/ppt/media/image4.jpeg" ContentType="image/jpeg"/>
  <Override PartName="/ppt/media/image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.gif" ContentType="image/gif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FBF-8213-49A6-9223-26208789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216-475D-4180-B754-279AA847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93B-6FB7-43E5-AD80-7D564546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3D0-B5B3-42D9-9E64-21655313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3DE-AC3A-4AC1-93CC-CEC4B848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6DB-9257-4465-A63B-E00ECD48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C7F-2F48-4610-88FE-417A689F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888-D56A-4AAE-9F90-B1EDEB39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9DE-BAB9-44C1-8C5A-38B469F3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5F1-FE02-494A-8C54-8F2CBD94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FE0-BBB9-4A40-8978-4F5FA359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780-45FC-41D7-9074-21774114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F876-0071-4928-8EAA-E84318D355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51share.net/upfiles/2004217032227186.swf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3888000" y="3124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65240" y="803160"/>
            <a:ext cx="458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Unit  14  Festi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2152800"/>
            <a:ext cx="796284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Unit 14  Festiva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hank06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6324840" cy="4711680"/>
          </a:xfrm>
          <a:prstGeom prst="rect">
            <a:avLst/>
          </a:prstGeom>
          <a:ln w="0">
            <a:noFill/>
          </a:ln>
        </p:spPr>
      </p:pic>
      <p:pic>
        <p:nvPicPr>
          <p:cNvPr id="69" name="thank09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029200" cy="380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6520" y="1219320"/>
            <a:ext cx="41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anks Giving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火鸡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480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50280" y="541008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ur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uple1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91520" cy="4938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2360" y="579132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St Valentine’s D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ddabw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48000" cy="5791320"/>
          </a:xfrm>
          <a:prstGeom prst="rect">
            <a:avLst/>
          </a:prstGeom>
          <a:ln w="0">
            <a:noFill/>
          </a:ln>
        </p:spPr>
      </p:pic>
      <p:pic>
        <p:nvPicPr>
          <p:cNvPr id="76" name="日本盆节6" descr=""/>
          <p:cNvPicPr/>
          <p:nvPr/>
        </p:nvPicPr>
        <p:blipFill>
          <a:blip r:embed="rId2"/>
          <a:stretch/>
        </p:blipFill>
        <p:spPr>
          <a:xfrm>
            <a:off x="0" y="0"/>
            <a:ext cx="255420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日本盆节4" descr=""/>
          <p:cNvPicPr/>
          <p:nvPr/>
        </p:nvPicPr>
        <p:blipFill>
          <a:blip r:embed="rId3"/>
          <a:stretch/>
        </p:blipFill>
        <p:spPr>
          <a:xfrm>
            <a:off x="6759720" y="2743200"/>
            <a:ext cx="238428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271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9520" y="4876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Ob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万圣节" descr=""/>
          <p:cNvPicPr/>
          <p:nvPr/>
        </p:nvPicPr>
        <p:blipFill>
          <a:blip r:embed="rId1"/>
          <a:stretch/>
        </p:blipFill>
        <p:spPr>
          <a:xfrm>
            <a:off x="380880" y="0"/>
            <a:ext cx="4114800" cy="3670200"/>
          </a:xfrm>
          <a:prstGeom prst="rect">
            <a:avLst/>
          </a:prstGeom>
          <a:ln w="0">
            <a:noFill/>
          </a:ln>
        </p:spPr>
      </p:pic>
      <p:pic>
        <p:nvPicPr>
          <p:cNvPr id="81" name="万圣节2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3733560" cy="2814480"/>
          </a:xfrm>
          <a:prstGeom prst="rect">
            <a:avLst/>
          </a:prstGeom>
          <a:ln w="50760">
            <a:solidFill>
              <a:srgbClr val="808000"/>
            </a:solidFill>
            <a:miter/>
          </a:ln>
        </p:spPr>
      </p:pic>
      <p:pic>
        <p:nvPicPr>
          <p:cNvPr id="82" name="17_05_934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3352680" cy="28731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83" name="17_05_949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429000" cy="2940120"/>
          </a:xfrm>
          <a:prstGeom prst="rect">
            <a:avLst/>
          </a:prstGeom>
          <a:ln w="54000">
            <a:solidFill>
              <a:srgbClr val="808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371600" y="2819520"/>
            <a:ext cx="25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Hallo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墨西哥鬼节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761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98720" y="5514840"/>
            <a:ext cx="253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he Dea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600200" y="6094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Let's re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7391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32720" y="5237280"/>
            <a:ext cx="2047680" cy="162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5097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Read the text fast and find out the ans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6560" y="217800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at is the festival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42900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t is a seven-day festival celebrating the culture and history of African Americ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24960" y="4724280"/>
            <a:ext cx="1319040" cy="213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8077320" cy="66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1.  Kwanzaa  is  a  very  old   fest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2.  The word Kwanzaa means first fruit in Swahi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3.  Kwanzaa is based on old African festiv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4.  People created Kwanzaa to celebrate American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Kwanzaa is celebrate on Christmas  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6.  People who celebrate Kwanzaa light a candle for each of the seven princi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4572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5638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519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52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371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6094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39006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merican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71440" y="700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5960" y="4572000"/>
            <a:ext cx="24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 Chris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7440" y="496728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7720" y="3886200"/>
            <a:ext cx="60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frican-American culture and cul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5480" y="501984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from Dec 26 to Jan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春节" descr=""/>
          <p:cNvPicPr/>
          <p:nvPr/>
        </p:nvPicPr>
        <p:blipFill>
          <a:blip r:embed="rId1"/>
          <a:stretch/>
        </p:blipFill>
        <p:spPr>
          <a:xfrm>
            <a:off x="0" y="457200"/>
            <a:ext cx="9067680" cy="535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6800" y="3048120"/>
            <a:ext cx="589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ff"/>
                </a:solidFill>
                <a:latin typeface="方正姚体"/>
                <a:ea typeface="方正姚体"/>
              </a:rPr>
              <a:t>Spring festiv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1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’s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11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45124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 is a seven-day festival celebrating the culture and history of African Americ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4821120"/>
            <a:ext cx="453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 week following Christmas Day.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730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was Kwanzaa bo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8638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y did people cre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91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did the African first-fru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festivals have in comm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was Kwanzaa bo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68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y did people cre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4512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n 19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860640"/>
            <a:ext cx="70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eople created the festival so that African Americans would be able to celebrate their history and 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84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did the African first-fru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festivals have in comm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637000"/>
            <a:ext cx="792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.People would get together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elebrate their harve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.They used to give thanks for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arvests and for lif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.They used to honour their ancestors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elebrate their past,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roup or society they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3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are the principles of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2230560"/>
            <a:ext cx="47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.Unit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.Self-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.Living togeth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4.Working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5.Purpo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6.Crea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7.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644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en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es Kwanzaa begin and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7115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id people choose that da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78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How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en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es Kwanzaa begin and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1337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 begins the day after Christmas Day and ends on New Year’s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1417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id people choose that da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789360"/>
            <a:ext cx="75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Because people who celebrate Kwanzaa can enjoy the spirit of the holidays without all the commercial activities of Christ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5640" y="5097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How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2522520"/>
            <a:ext cx="75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eople celebrate it by lighting a candle each day and discussing one of the seven principles of Kwanza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4035600"/>
            <a:ext cx="75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n the last day of Kwanzaa, family and friends gather to enjoy a large meal and to celebrate the new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5800" y="99072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general introduction to a new festival ---- Kwaanzaa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50532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343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ow was Kwanzaa born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68580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447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seven principles of kwanza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43828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5268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en and how Kwanzaa is celebrated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15908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5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87692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y are we all creating n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estival every year 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ianhuadeng" descr=""/>
          <p:cNvPicPr/>
          <p:nvPr/>
        </p:nvPicPr>
        <p:blipFill>
          <a:blip r:embed="rId1"/>
          <a:stretch/>
        </p:blipFill>
        <p:spPr>
          <a:xfrm>
            <a:off x="1447920" y="1123920"/>
            <a:ext cx="6019560" cy="573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7640" y="45720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antern fest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400800" y="990720"/>
            <a:ext cx="2286000" cy="1752480"/>
          </a:xfrm>
          <a:prstGeom prst="cloudCallout">
            <a:avLst>
              <a:gd name="adj1" fmla="val -83888"/>
              <a:gd name="adj2" fmla="val 1446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533520"/>
            <a:ext cx="2514600" cy="1752480"/>
          </a:xfrm>
          <a:prstGeom prst="cloudCallout">
            <a:avLst>
              <a:gd name="adj1" fmla="val -16981"/>
              <a:gd name="adj2" fmla="val 162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2895480"/>
            <a:ext cx="1981080" cy="1752840"/>
          </a:xfrm>
          <a:prstGeom prst="cloudCallout">
            <a:avLst>
              <a:gd name="adj1" fmla="val -97916"/>
              <a:gd name="adj2" fmla="val 68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914400"/>
            <a:ext cx="2286000" cy="1752480"/>
          </a:xfrm>
          <a:prstGeom prst="cloudCallout">
            <a:avLst>
              <a:gd name="adj1" fmla="val 55069"/>
              <a:gd name="adj2" fmla="val 1370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514600"/>
            <a:ext cx="1981080" cy="1752480"/>
          </a:xfrm>
          <a:prstGeom prst="cloudCallout">
            <a:avLst>
              <a:gd name="adj1" fmla="val 113782"/>
              <a:gd name="adj2" fmla="val 56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1066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1447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200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1523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657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0960" y="5181480"/>
            <a:ext cx="77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an you  create a festival for yoursel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590920"/>
            <a:ext cx="2438280" cy="1752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8000" y="1025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wanzaa is a ______-day festival celebrating the _______ and ________ of African Americans. It is between _____________ and ____________, the week ___________ Christmas Day. There are seven _________for this festival: unity, _______________  , living together,_______________, purpose, creativity and ______. People celebrate the festival by _______ a candle each day and __________ one of the seven principles. They enjoy a ____________ on the last day of Kwanzaa. Kwanzaa, like other important holidays and ________in the world, helps us understand_____________, remember __________________ , and share __________for a happy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66920" y="98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61160" y="993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3748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1901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cember 26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1844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January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05680" y="18302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ll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19560" y="22622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270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f-de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19880" y="270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orking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51200" y="3141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3557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3557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iscu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39895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rge m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4854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esti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87640" y="528624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o we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57182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ere we c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38720" y="57182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ur h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600" y="-25560"/>
            <a:ext cx="9144000" cy="10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Retell the text</a:t>
            </a:r>
            <a:r>
              <a:rPr b="1" i="1" lang="en-US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447920" y="1523880"/>
            <a:ext cx="5943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w1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5320" y="5562720"/>
            <a:ext cx="44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Dragon boat festiv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0291717331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27560" y="2666880"/>
            <a:ext cx="594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Monotype Corsiva"/>
              </a:rPr>
              <a:t>Mid-autumn Fest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6240" y="35053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on festiv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ongyang01" descr=""/>
          <p:cNvPicPr/>
          <p:nvPr/>
        </p:nvPicPr>
        <p:blipFill>
          <a:blip r:embed="rId1"/>
          <a:stretch/>
        </p:blipFill>
        <p:spPr>
          <a:xfrm>
            <a:off x="1523880" y="0"/>
            <a:ext cx="251460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chongyang02" descr=""/>
          <p:cNvPicPr/>
          <p:nvPr/>
        </p:nvPicPr>
        <p:blipFill>
          <a:blip r:embed="rId2"/>
          <a:stretch/>
        </p:blipFill>
        <p:spPr>
          <a:xfrm>
            <a:off x="4572000" y="0"/>
            <a:ext cx="2514600" cy="2023920"/>
          </a:xfrm>
          <a:prstGeom prst="rect">
            <a:avLst/>
          </a:prstGeom>
          <a:ln w="0">
            <a:noFill/>
          </a:ln>
        </p:spPr>
      </p:pic>
      <p:pic>
        <p:nvPicPr>
          <p:cNvPr id="55" name="chongyang03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822960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1005a" descr=""/>
          <p:cNvPicPr/>
          <p:nvPr/>
        </p:nvPicPr>
        <p:blipFill>
          <a:blip r:embed="rId4"/>
          <a:stretch/>
        </p:blipFill>
        <p:spPr>
          <a:xfrm>
            <a:off x="1066680" y="4206960"/>
            <a:ext cx="3810240" cy="2651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56000" y="5029200"/>
            <a:ext cx="33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ouble Ninth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清明节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029200" cy="3295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5029200" cy="3292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1120" y="4495680"/>
            <a:ext cx="551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Tomb sweeping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The clear and bright fest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0200" y="5867280"/>
            <a:ext cx="54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tepping on Greenery festi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芦笙节1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531040"/>
          </a:xfrm>
          <a:prstGeom prst="rect">
            <a:avLst/>
          </a:prstGeom>
          <a:ln w="0">
            <a:noFill/>
          </a:ln>
        </p:spPr>
      </p:pic>
      <p:pic>
        <p:nvPicPr>
          <p:cNvPr id="63" name="凯里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153280" cy="5550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0040" y="6016680"/>
            <a:ext cx="51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Kaili Lusheng Festiv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3865680" cy="5562360"/>
          </a:xfrm>
          <a:prstGeom prst="rect">
            <a:avLst/>
          </a:prstGeom>
          <a:ln w="0">
            <a:noFill/>
          </a:ln>
        </p:spPr>
      </p:pic>
      <p:pic>
        <p:nvPicPr>
          <p:cNvPr id="66" name="7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357720" cy="449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91120" y="568332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Christmas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龙洲</cp:lastModifiedBy>
  <dcterms:modified xsi:type="dcterms:W3CDTF">2004-03-03T09:52:10Z</dcterms:modified>
  <cp:revision>139</cp:revision>
  <dc:subject/>
  <dc:title>PowerPoint Presentation</dc:title>
</cp:coreProperties>
</file>